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8D6-2CB9-4C84-A294-1015C6DB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D70-8EFF-49C5-9EFF-0F581D7A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9AC-3F5F-430E-A5E7-51DF21D6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C1B-10E1-4CB5-93EB-CC75480C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A1F8-063B-49DF-A671-1B4C1291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B73C-0EFC-4113-8D1A-B7684FD6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FC77-C9C9-4207-906F-CF9761CD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E19A-4001-47F3-9803-0CE26484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BB57-3569-4B3C-89C2-A25ACD94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2400-021E-413D-9934-82053286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AB68-675D-4E87-A5D4-B3AABB76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7CB5-80E2-40E3-832A-E12D744E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04CD-89BA-47D0-9FCD-21A2F2A1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E0CC-7AC4-4CD7-9EE5-3A6D9168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CEA9-02A3-4F0A-B73A-58AA6277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1DF1-F77A-410B-88B6-96539C41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D2E8-C3A3-4193-96EC-21A4A914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008-53AB-4540-AA3A-A65618FA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B633-FC0E-42E3-AB51-DE03C1B5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D976-3F03-48FD-985B-7B178E73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07F1-6B31-4876-A6EB-70A87581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7A3-0B5E-4975-91FF-3D0C921E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446-5598-45E9-818D-C814FE0C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9819-8D54-4EA1-9600-573FAB49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FB5D-C3BA-4173-9D0F-4DDDE33B097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782A-1802-421D-A27D-C7FB28BEBFE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difference between point and nonpoint polluti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6095520"/>
            <a:ext cx="6400800" cy="228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J.R.Hawkins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University of Rhode Island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Fall 2009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int Source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int source pollution comes from an identifiable, specific sour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ch as a pi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ly pollution from industry or municipal waste treatment (sewage treatment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92560" y="1981080"/>
            <a:ext cx="292104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npoint source pol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lution that comes from many different sources and cannot be traced back to one identifiable sourc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lution from associated with storm water or runof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s of nonpoint source pollu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il &amp; grease from c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rtiliz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mal was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ss clipp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ptic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24280" y="2133720"/>
            <a:ext cx="381024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wage &amp; cleaners from boa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usehold cleaning produ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iz - Is this a point or nonpoint sourc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2451240" cy="2400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105520" y="1905120"/>
            <a:ext cx="3047760" cy="1838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486400" y="4191120"/>
            <a:ext cx="1781280" cy="2133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95280" y="1955880"/>
            <a:ext cx="2292480" cy="1473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834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30800" y="5791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4040" y="327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7000" y="5791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23:58:49Z</dcterms:created>
  <dc:creator>Mona Florea</dc:creator>
  <dc:description/>
  <dc:language>en-US</dc:language>
  <cp:lastModifiedBy>Mona Florea</cp:lastModifiedBy>
  <dcterms:modified xsi:type="dcterms:W3CDTF">2009-12-14T00:19:50Z</dcterms:modified>
  <cp:revision>2</cp:revision>
  <dc:subject/>
  <dc:title>What is the difference between point and nonpoint pollution?</dc:title>
</cp:coreProperties>
</file>